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6510-3EE7-46C4-9654-CB764FE27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rd culture, from the Latin colo, -ere, with its root meaning "to cultivate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refers to the universal human capacity to classify, and communicate their experiences symbolica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e -  has been called "the way of life for an entire society." As such, it includes codes of manners, dress, language, religion, rituals, norms of behaviors and systems of belie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comprise ideas about what in life seems impor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Values in the United States and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s consist of expectations of how people will behave in various situ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t write) What are the norms in the United stat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institution do you go to daily and show values and social n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write) What artifact in your life describes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1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ultu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lting Po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2E6-5CC6-4208-B3B7-D625518A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3D0-362D-44F6-B11D-DFB63D81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19B-A86C-4BA0-B062-FCE7FB35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2C7-F5D0-45D4-9C57-596A23AB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45F9-CD02-43A9-8C8E-7198AE7D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ED05-F790-4FC7-B57C-F376CD32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2090-6F89-4873-96AB-EF2EDEA2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BAC7-457C-4C9F-9C44-8494E790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A793-E3A9-4E73-95B3-92984220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C513-3DC7-4953-AA13-5A1B71C3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778E-2C7D-48A9-95AA-ECEB416C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601A-C4D6-486F-B39A-2621CB58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9E1D-9127-4DB9-BB0C-6234532F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850F-4162-4138-91BD-3E187317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DA15-A485-4802-BBF5-CC125959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6E25-5D47-46D2-A83A-38271C73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DE85-A24D-409F-A413-F7A2DEF4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529-8CC8-4D96-820C-60C0BD9B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DE5-8DCA-4A41-A5C1-22AB2E27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0BE0-7E56-4F45-9A47-4884544A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D52B-4205-4F8D-90D4-68095AE4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DF4-FA46-4FCE-9BB2-343DB782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E32-6EDB-40E2-8E73-0A2C4AA1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6B7-332E-4B3F-94C1-E3124B11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A738-16B0-4752-8589-C9BB002F6E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B8ED-4069-4A60-A063-6EF384426C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Latin" TargetMode="External"/><Relationship Id="rId2" Type="http://schemas.openxmlformats.org/officeDocument/2006/relationships/hyperlink" Target="http://en.wikipedia.org/wiki/Symbol" TargetMode="External"/><Relationship Id="rId3" Type="http://schemas.openxmlformats.org/officeDocument/2006/relationships/image" Target="../media/image1.jpeg"/><Relationship Id="rId4" Type="http://schemas.openxmlformats.org/officeDocument/2006/relationships/hyperlink" Target="http://images.google.com/imgres?imgurl=http://www.tvdance.com/william-hung/william-hung-american-idol-reject.jpg&amp;imgrefurl=http://www.tvdance.com/william-hung/&amp;h=162&amp;w=158&amp;sz=5&amp;hl=en&amp;start=6&amp;tbnid=Qq_kns9gSFciBM:&amp;tbnh=98&amp;tbnw=96&amp;prev=/images%3Fq%3DAmerican%2Bidol%26svnum%3D10%26hl%3Den%26lr%3D%26rls%3DGWYE,GWYE:2006-32,GWYE:en%26sa%3DN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ligion" TargetMode="External"/><Relationship Id="rId2" Type="http://schemas.openxmlformats.org/officeDocument/2006/relationships/hyperlink" Target="http://en.wikipedia.org/wiki/Rituals" TargetMode="External"/><Relationship Id="rId3" Type="http://schemas.openxmlformats.org/officeDocument/2006/relationships/hyperlink" Target="http://images.google.com/imgres?imgurl=http://waste2glass.com/images/right_side_picts/worship.jpg&amp;imgrefurl=http://waste2glass.com/worship.html&amp;h=202&amp;w=274&amp;sz=11&amp;hl=en&amp;start=1&amp;tbnid=GoNhRXGRKlojDM:&amp;tbnh=83&amp;tbnw=113&amp;prev=/images%3Fq%3Dworship%26svnum%3D10%26hl%3Den%26lr%3D%26rls%3DGWYE,GWYE:2006-32,GWYE:en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fashion-411.com/Trends/TrendsS06/JillStuartDress.jpg&amp;imgrefurl=http://www.fashion-411.com/&amp;h=480&amp;w=320&amp;sz=43&amp;hl=en&amp;start=10&amp;tbnid=zeTHEfacg8V8rM:&amp;tbnh=129&amp;tbnw=86&amp;prev=/images%3Fq%3Dfashion%26svnum%3D10%26hl%3Den%26lr%3D%26rls%3DGWYE,GWYE:2006-32,GWYE:en%26sa%3D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mdlsoft.co.uk/PrimaryPics1/hello.jpg&amp;imgrefurl=http://www.mdlsoft.co.uk/PrimaryPics.htm&amp;h=198&amp;w=213&amp;sz=4&amp;hl=en&amp;start=9&amp;tbnid=mgDjUhRF8lycSM:&amp;tbnh=99&amp;tbnw=106&amp;prev=/images%3Fq%3Dhello%26svnum%3D10%26hl%3Den%26lr%3D%26rls%3DGWYE,GWYE:2006-32,GWYE:en%26sa%3DG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Value_%28personal_and_cultural%29" TargetMode="External"/><Relationship Id="rId2" Type="http://schemas.openxmlformats.org/officeDocument/2006/relationships/hyperlink" Target="http://en.wikipedia.org/wiki/Norm_%28sociology%29" TargetMode="External"/><Relationship Id="rId3" Type="http://schemas.openxmlformats.org/officeDocument/2006/relationships/hyperlink" Target="http://en.wikipedia.org/wiki/Institutions" TargetMode="External"/><Relationship Id="rId4" Type="http://schemas.openxmlformats.org/officeDocument/2006/relationships/hyperlink" Target="http://en.wikipedia.org/wiki/Artifact_%28archaeology%29" TargetMode="External"/><Relationship Id="rId5" Type="http://schemas.openxmlformats.org/officeDocument/2006/relationships/hyperlink" Target="http://images.google.com/imgres?imgurl=http://www3.cancer.gov/rrp/cdrp/images/shaking-hands.jpg&amp;imgrefurl=http://www3.cancer.gov/rrp/cdrp/&amp;h=253&amp;w=250&amp;sz=22&amp;tbnid=29cOG1RZXHPe5M:&amp;tbnh=106&amp;tbnw=104&amp;prev=/images%3Fq%3Dshaking%2Bhands&amp;start=3&amp;sa=X&amp;oi=images&amp;ct=image&amp;cd=3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ages.google.com/imgres?imgurl=http://library.thinkquest.org/J003358F/money_tree5.jpg&amp;imgrefurl=http://library.thinkquest.org/J003358F/trivia.html&amp;h=1762&amp;w=1949&amp;sz=1139&amp;hl=en&amp;start=8&amp;tbnid=kFA6lC91uco_eM:&amp;tbnh=136&amp;tbnw=150&amp;prev=/images%3Fq%3Dmoney%26svnum%3D10%26hl%3Den%26lr%3D%26rls%3DGWYE,GWYE:2006-32,GWYE:en%26sa%3DN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s.google.com/imgres?imgurl=http://www.rapides.k12.la.us/VI/School%2520House.jpg&amp;imgrefurl=http://www.rapides.k12.la.us/VI/mspublisher.htm&amp;h=1119&amp;w=779&amp;sz=215&amp;hl=en&amp;start=5&amp;tbnid=CIMW4mm9Zm0SsM:&amp;tbnh=150&amp;tbnw=104&amp;prev=/images%3Fq%3Dschool%2Bhouse%26svnum%3D10%26hl%3Den%26lr%3D%26rls%3DGWYE,GWYE:2006-32,GWYE:en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images.google.com/imgres?imgurl=http://www.cr.nps.gov/history/online_books/nace/images/fig5.jpg&amp;imgrefurl=http://www.cr.nps.gov/history/online_books/nace/adhi2a.htm&amp;h=341&amp;w=450&amp;sz=20&amp;hl=en&amp;start=3&amp;tbnid=S6nTmQs2Od-p2M:&amp;tbnh=96&amp;tbnw=127&amp;prev=/images%3Fq%3DLincoln%2Bmemorial%26svnum%3D10%26hl%3Den%26lr%3D%26rls%3DGWYE,GWYE:2006-32,GWYE:en%26sa%3DG" TargetMode="External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dwarereport.com/mt/archives/ipods.jpg&amp;imgrefurl=http://www.adwarereport.com/mt/archives/cat_news.html&amp;h=227&amp;w=406&amp;sz=24&amp;hl=en&amp;start=1&amp;tbnid=jFg3e8eru5LEGM:&amp;tbnh=69&amp;tbnw=124&amp;prev=/images%3Fq%3Dipods%26svnum%3D10%26hl%3Den%26lr%3D%26rls%3DGWYE,GWYE:2006-32,GWYE:en%26sa%3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users.ox.ac.uk/~newc2520/napoleon%2520dynamite.jpg&amp;imgrefurl=http://users.ox.ac.uk/~newc2520/dynamite.htm&amp;h=768&amp;w=1024&amp;sz=141&amp;hl=en&amp;start=7&amp;tbnid=tQ9_Tzn67A4ctM:&amp;tbnh=113&amp;tbnw=150&amp;prev=/images%3Fq%3Dnapoleon%2Bdynamite%26svnum%3D10%26hl%3Den%26lr%3D%26rls%3DGWYE,GWYE:2006-32,GWYE:en%26sa%3DX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ancerblog.com/media/2006/05/mcdonalds.jpg&amp;imgrefurl=http://www.thecancerblog.com/2006/05/10/fast-food-notion-from-a-fast-food-nation-icon/&amp;h=152&amp;w=171&amp;sz=10&amp;hl=en&amp;start=17&amp;tbnid=PUYmKQH8RNhdSM:&amp;tbnh=89&amp;tbnw=100&amp;prev=/images%3Fq%3Dfast%2Bfood%26svnum%3D10%26hl%3Den%26lr%3D%26rls%3DGWYE,GWYE:2006-32,GWYE:en%26sa%3DX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om/imgres?imgurl=http://www.daphnes-restaurant.co.uk/support/6/images/conservatory1.jpg&amp;imgrefurl=http://www.daphnes-restaurant.co.uk/index.asp%3Farea%3D6&amp;h=280&amp;w=431&amp;sz=30&amp;hl=en&amp;start=16&amp;tbnid=yxfv-nd__iSutM:&amp;tbnh=82&amp;tbnw=126&amp;prev=/images%3Fq%3Drestaurant%26svnum%3D10%26hl%3Den%26lr%3D%26rls%3DGWYE,GWYE:2006-32,GWYE:en%26sa%3DX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helleytherepublican.com/uploaded_images/america-790957.jpg&amp;imgrefurl=http://shelleytherepublican.com/&amp;h=538&amp;w=800&amp;sz=56&amp;hl=en&amp;start=7&amp;tbnid=G2KoXZKrs8KRVM:&amp;tbnh=96&amp;tbnw=143&amp;prev=/images%3Fq%3DAmerica%2B%26svnum%3D10%26hl%3Den%26lr%3D%26rls%3DGWYE,GWYE:2006-32,GWYE: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calendars.com/images/014/1433/200500001001_hs.jpg&amp;imgrefurl=http://www.calendars2004.com/america/&amp;h=144&amp;w=145&amp;sz=6&amp;hl=en&amp;start=9&amp;tbnid=-SG89jd9s7nCEM:&amp;tbnh=94&amp;tbnw=95&amp;prev=/images%3Fq%3DAmerica%2Bmonuments%26svnum%3D10%26hl%3Den%26lr%3D%26rls%3DGWYE,GWYE:2006-32,GWYE:en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ult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from the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t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olo, -e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ith its root meaning "to cultivate“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refers to the universal human capacity to classify, and communicate their experiences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symbolicall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8" descr="farming"/>
          <p:cNvPicPr/>
          <p:nvPr/>
        </p:nvPicPr>
        <p:blipFill>
          <a:blip r:embed="rId3"/>
          <a:stretch/>
        </p:blipFill>
        <p:spPr>
          <a:xfrm>
            <a:off x="914400" y="3733920"/>
            <a:ext cx="2004840" cy="2819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illiam-hung-american-idol-rejec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52880" y="4267080"/>
            <a:ext cx="2389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-  has been called "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way of lif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an entire society." As such, it includes codes of manners, dress, language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relig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ritu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norms of behaviors and systems of belief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worshi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343400"/>
            <a:ext cx="3047760" cy="22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JillStuartDres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4038480"/>
            <a:ext cx="1778040" cy="2667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ll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772400" y="152280"/>
            <a:ext cx="100980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mon way of understanding culture is to see it as consisting of four elements that are "passed on from generation to generation by learning alone"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valu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nor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institu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Artifact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http://www3.cancer.gov/rrp/cdrp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343400"/>
            <a:ext cx="990720" cy="1009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oney_tree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91520" y="3048120"/>
            <a:ext cx="14284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chool%2520Hous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724280"/>
            <a:ext cx="99072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ig5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276720" y="5638680"/>
            <a:ext cx="1209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s comprise ideas about what in life seems importa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Values in the United States and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ipo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191120"/>
            <a:ext cx="308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s consist of expectations of how people will behave in various situa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ast write) What are the norms in the United stat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napoleon%2520dynami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4419720"/>
            <a:ext cx="29527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are the structures of a society within which values and norms are transmitt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institution do you go to daily and show values and social nor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mcdon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05520"/>
            <a:ext cx="1828800" cy="1627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conservatory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10080" y="4800600"/>
            <a:ext cx="31053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1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—things, or aspects of material culture derive from a culture's values and nor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st write) What artifact in your life describes you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america-7909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4952880"/>
            <a:ext cx="136224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200500001001_h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76520" y="4952880"/>
            <a:ext cx="1523880" cy="1508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3608"/>
          <p:cNvPicPr/>
          <p:nvPr/>
        </p:nvPicPr>
        <p:blipFill>
          <a:blip r:embed="rId5"/>
          <a:stretch/>
        </p:blipFill>
        <p:spPr>
          <a:xfrm>
            <a:off x="4343400" y="4648320"/>
            <a:ext cx="1479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2b2b2"/>
                </a:solidFill>
                <a:latin typeface="Arial"/>
              </a:rPr>
              <a:t>What is culture?</a:t>
            </a:r>
            <a:br>
              <a:rPr sz="54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tandard 10.1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bculture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ting Po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ism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4T04:34:37Z</dcterms:created>
  <dc:creator>Jason lundblad</dc:creator>
  <dc:description/>
  <dc:language>en-US</dc:language>
  <cp:lastModifiedBy>LEGION</cp:lastModifiedBy>
  <dcterms:modified xsi:type="dcterms:W3CDTF">2017-07-03T09:58:50Z</dcterms:modified>
  <cp:revision>8</cp:revision>
  <dc:subject/>
  <dc:title>What is culture? Standard 10.1</dc:title>
</cp:coreProperties>
</file>